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4.jpeg" ContentType="image/jpeg"/>
  <Override PartName="/ppt/media/image46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7.png" ContentType="image/pn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9F6-2552-4849-A6EA-B753CB07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D29-F6B7-466A-A637-D55BBE12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854-DF6B-4A7B-BE82-B1460E55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CA1-531C-4C4D-8DC2-39039698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32E9-E25C-43DE-A67B-C7B02552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B5E-6F2F-45DF-99AD-91CB000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FA2-7D07-4609-8840-37B6182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42D1-560F-4D56-8BBC-7F98A268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EBB7-EF99-4B0A-84D1-0133FDE0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E570-426E-4D9D-A7E9-66F8381C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3C0A-5607-4A60-8814-7748FEE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84C-0B3D-4400-B158-247BC705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5F12-2F1F-446D-AE4A-2854BEC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10F-0DFA-426E-8A55-C5EED1C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C98E-FE0B-4B3A-8AC5-94D3EB63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F9F3-E00F-41EA-BBED-09773414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D68A-B4D3-42DD-A4AF-3CCA6227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F2E-96AD-4CCD-BAEE-49733E16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03E-A0EB-478F-81B3-95B25D22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DA7-75A8-4084-80BA-3A5DED08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6D9-7E14-4862-8767-A33B2EF4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034-F4A7-4781-B839-B29E563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F49-2C46-40D3-BD9C-9A9F0FA6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C9B-66A9-4EBA-9ECF-403D66C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E317-31D0-411F-A55C-B348D0726C00}" type="slidenum"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75C8-0828-43F0-A3EC-85D9844F76E6}" type="slidenum"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hyperlink" Target="http://images.google.fr/imgres?imgurl=http://www.sutekidane.net/img/blog/photos/guirlandes.jpg&amp;imgrefurl=http://www.sutekidane.net/blog/mon-beau-sapin.html&amp;h=280&amp;w=400&amp;sz=36&amp;hl=fr&amp;sig2=kbCFxJqzu9SCKRasVKXO4Q&amp;start=4&amp;tbnid=Ua5hP4-kgs4--M:&amp;tbnh=87&amp;tbnw=124&amp;ei=DymRRb_VC4vOSIezyJ8P&amp;prev=/images%3Fq%3Dguirlandes%26svnum%3D10%26hl%3Dfr%26lr%3D%26rls%3DGGLG,GGLG:2006-14,GGLG:fr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nouveaujour.fr/new/images/images_celio_nice.gif&amp;imgrefurl=http://www.nouveaujour.fr/new/case_celio.html&amp;h=100&amp;w=130&amp;sz=12&amp;hl=fr&amp;sig2=UaMAksUmMKFwypQQyYH8ZA&amp;start=4&amp;tbnid=hUDx87fH3Ioc_M:&amp;tbnh=70&amp;tbnw=91&amp;ei=_yqRRZrhMYe0SOrhqa0P&amp;prev=/images%3Fq%3Dshoppenboys%26svnum%3D10%26hl%3Dfr%26lr%3D%26rls%3DGGLG,GGLG:2006-14,GGLG:fr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fr/imgres?imgurl=http://www.e-generator.ru/news/icons/5881shoppenboys-70.jpg&amp;imgrefurl=http://www.e-generator.ru/&amp;h=70&amp;w=70&amp;sz=3&amp;hl=fr&amp;sig2=S2EUZTiVNbsmx3tIRUeSLw&amp;start=13&amp;tbnid=o_sDBMNgiLboKM:&amp;tbnh=68&amp;tbnw=68&amp;ei=_yqRRZrhMYe0SOrhqa0P&amp;prev=/images%3Fq%3Dshoppenboys%26svnum%3D10%26hl%3Dfr%26lr%3D%26rls%3DGGLG,GGLG:2006-14,GGLG:fr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fr/imgres?imgurl=http://www.shoppenboys.com/images/logo.gif&amp;imgrefurl=http://www.shoppenboys.com/&amp;h=62&amp;w=171&amp;sz=2&amp;hl=fr&amp;sig2=tX3tYSKbSM0oRgeLeziobw&amp;start=9&amp;tbnid=I4uySCe0eYbM8M:&amp;tbnh=36&amp;tbnw=100&amp;ei=_yqRRZrhMYe0SOrhqa0P&amp;prev=/images%3Fq%3Dshoppenboys%26svnum%3D10%26hl%3Dfr%26lr%3D%26rls%3DGGLG,GGLG:2006-14,GGLG:fr" TargetMode="External"/><Relationship Id="rId7" Type="http://schemas.openxmlformats.org/officeDocument/2006/relationships/image" Target="../media/image18.jpeg"/><Relationship Id="rId8" Type="http://schemas.openxmlformats.org/officeDocument/2006/relationships/slide" Target="slide35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ottrebes.free.fr/phpnuke5/html/Adherents/images/U.jpg&amp;imgrefurl=http://ottrebes.free.fr/phpnuke5/html/Adherents/aliment.htm&amp;h=317&amp;w=256&amp;sz=20&amp;hl=fr&amp;sig2=mmx816PzHdLZLswmSNap_Q&amp;start=5&amp;tbnid=0HO6EKcqZAWqTM:&amp;tbnh=118&amp;tbnw=95&amp;ei=KyyRRaTsF4u0SIrs4KsP&amp;prev=/images%3Fq%3Dsuper%2Bu%26svnum%3D10%26hl%3Dfr%26lr%3D%26rls%3DGGLG,GGLG:2006-14,GGLG:fr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fr/imgres?imgurl=http://www.clicresto.fr/images/shp01-01a.jpg&amp;imgrefurl=http://www.clicresto.fr/plateaux_repas.html&amp;h=158&amp;w=159&amp;sz=8&amp;hl=fr&amp;sig2=JiYNxIs3SegqITdq7QY7VA&amp;start=7&amp;tbnid=T9CgRekn2OHdUM:&amp;tbnh=96&amp;tbnw=97&amp;ei=RSyRRcS1K9C4SbOs5IIP&amp;prev=/images%3Fq%3Dmenus%2Btraiteurs%26svnum%3D10%26hl%3Dfr%26lr%3D%26rls%3DGGLG,GGLG:2006-14,GGLG:fr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fr/imgres?imgurl=http://www.terranovafrance.com/nova_images/CHAISEALICANTE.jpg&amp;imgrefurl=http://www.terranovafrance.com/chaises.php&amp;h=488&amp;w=300&amp;sz=25&amp;hl=fr&amp;sig2=NJJp9bnGujHEoRzcT3DCeA&amp;start=10&amp;tbnid=b0UIENXh_5pOLM:&amp;tbnh=130&amp;tbnw=80&amp;ei=YyyRRc_fGY_USNDH2KIP&amp;prev=/images%3Fq%3Dchaises%2B%26svnum%3D10%26hl%3Dfr%26lr%3D%26rls%3DGGLG,GGLG:2006-14,GGLG:fr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images.google.fr/imgres?imgurl=http://www.shop-n-zone.com/5-Foot%2520Farm%2520Table,%2520Pull-Through%2520Drawer,%25204-Inch%2520Turned%2520Legs.jpg&amp;imgrefurl=http://www.shop-n-zone.com/cabin_creek_furniture.htm&amp;h=880&amp;w=1392&amp;sz=65&amp;hl=fr&amp;sig2=dNtDD1wM-sM14XYuutfELg&amp;start=1&amp;tbnid=aTV4q1IxX48fIM:&amp;tbnh=95&amp;tbnw=150&amp;ei=fCyRRZ3ZH4LoSPK9oK4P&amp;prev=/images%3Fq%3Dtable%26svnum%3D10%26hl%3Dfr%26lr%3D%26rls%3DGGLG,GGLG:2006-14,GGLG:fr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35.xm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static.flickr.com/59/182521131_cccaa096a3_m.jpg&amp;imgrefurl=http://www.flickr.com/photos/49619009%40N00&amp;h=159&amp;w=240&amp;sz=13&amp;hl=fr&amp;sig2=kL6iqF3yk98OcDzoeTORrQ&amp;start=5&amp;tbnid=RgO7PFBIo60N2M:&amp;tbnh=73&amp;tbnw=110&amp;ei=Fi-RRf7kIoSgSbvv-PUO&amp;prev=/images%3Fq%3Dpistolet%2B%25C3%25A0%2Beau%26svnum%3D10%26hl%3Dfr%26lr%3D%26rls%3DGGLG,GGLG:2006-14,GGLG:fr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images.google.fr/imgres?imgurl=http://www.dancingbearshop.com/images/playmobile.jpg&amp;imgrefurl=http://www.dancingbearshop.com/gallery.htm&amp;h=262&amp;w=350&amp;sz=32&amp;hl=fr&amp;sig2=_rXag903d4HV-hOdnNuawg&amp;start=6&amp;tbnid=IIoMgpsP9P1A-M:&amp;tbnh=90&amp;tbnw=120&amp;ei=Oy-RRcitKI-wScDTxPwO&amp;prev=/images%3Fq%3Dplaymobile%26svnum%3D10%26hl%3Dfr%26lr%3D%26rls%3DGGLG,GGLG:2006-14,GGLG:fr%26sa%3DX" TargetMode="External"/><Relationship Id="rId5" Type="http://schemas.openxmlformats.org/officeDocument/2006/relationships/image" Target="../media/image24.jpeg"/><Relationship Id="rId6" Type="http://schemas.openxmlformats.org/officeDocument/2006/relationships/slide" Target="slide35.xml"/><Relationship Id="rId7" Type="http://schemas.openxmlformats.org/officeDocument/2006/relationships/slide" Target="slide35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packinnove.com/participants/desobry.jpg&amp;imgrefurl=http://www.packinnove.com/anglais/pages/buyers2003.htm&amp;h=39&amp;w=90&amp;sz=3&amp;hl=fr&amp;sig2=XRRuuhBfExbQ-XcmMJNnDw&amp;start=26&amp;tbnid=4C2FEIXZskRRoM:&amp;tbnh=34&amp;tbnw=78&amp;ei=8zWRRZjQLYK2SN7GseoO&amp;prev=/images%3Fq%3Ddesobry%26start%3D20%26ndsp%3D20%26svnum%3D10%26hl%3Dfr%26lr%3D%26rls%3DGGLG,GGLG:2006-14,GGLG:fr%26sa%3DN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images.google.fr/imgres?imgurl=http://www.holland-at-home.nl/images/Ferrero-rocher.jpg&amp;imgrefurl=http://www.holland-at-home.nl/ferrero-rocher-p-940.html%3FosCsid%3Ded2e91380ea6cfef1134f9ad0093c626&amp;h=200&amp;w=200&amp;sz=8&amp;hl=fr&amp;sig2=OvbT87aOSJXxcKNgN3vi0Q&amp;start=13&amp;tbnid=48MSu4lVnU3mYM:&amp;tbnh=104&amp;tbnw=104&amp;ei=LziRRbq7FJ6gSZOyqfUO&amp;prev=/images%3Fq%3Dferrero%2Brocher%26svnum%3D10%26hl%3Dfr%26lr%3D%26rls%3DGGLG,GGLG:2006-14,GGLG:fr" TargetMode="External"/><Relationship Id="rId6" Type="http://schemas.openxmlformats.org/officeDocument/2006/relationships/image" Target="../media/image27.jpeg"/><Relationship Id="rId7" Type="http://schemas.openxmlformats.org/officeDocument/2006/relationships/slide" Target="slide35.xm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imagescommerce.bcentral.com/merchantfiles/5116662/Ferrero%2520Rocher%2520203042.jpg&amp;imgrefurl=http://www.sweetintouch.com/catalog/ferrero_rocher_3857939.htm&amp;h=270&amp;w=270&amp;sz=74&amp;hl=fr&amp;sig2=CIGt4F3POmnMIn6m1ajU2A&amp;start=16&amp;tbnid=7QLeE0s8ySeyCM:&amp;tbnh=113&amp;tbnw=113&amp;ei=LziRRbq7FJ6gSZOyqfUO&amp;prev=/images%3Fq%3Dferrero%2Brocher%26svnum%3D10%26hl%3Dfr%26lr%3D%26rls%3DGGLG,GGLG:2006-14,GGLG:fr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fr/imgres?imgurl=http://www.sweetstall.com/acatalog/Ferrero_Rocher_Christmas_Tree.jpg&amp;imgrefurl=http://www.sweetstall.com/acatalog/Products__F___G.html&amp;h=188&amp;w=250&amp;sz=15&amp;hl=fr&amp;sig2=2Tk3faZQO1N9TugXhAGJFQ&amp;start=26&amp;tbnid=k8Fx2M29I3QP0M:&amp;tbnh=83&amp;tbnw=111&amp;ei=YTiRRZ3kK56gSZOyqfUO&amp;prev=/images%3Fq%3Dferrero%2Brocher%26start%3D20%26ndsp%3D20%26svnum%3D10%26hl%3Dfr%26lr%3D%26rls%3DGGLG,GGLG:2006-14,GGLG:fr%26sa%3DN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fr/imgres?imgurl=http://www.21giftshop.com/pic/chocolates/CT000216.gif&amp;imgrefurl=http://www.21giftshop.com/details.php%3Fid%3D216&amp;h=325&amp;w=235&amp;sz=58&amp;hl=fr&amp;sig2=nVupdT443hvK_5bPmu0P_A&amp;start=31&amp;tbnid=fdgn2xpEdeM2pM:&amp;tbnh=118&amp;tbnw=85&amp;ei=YTiRRZ3kK56gSZOyqfUO&amp;prev=/images%3Fq%3Dferrero%2Brocher%26start%3D20%26ndsp%3D20%26svnum%3D10%26hl%3Dfr%26lr%3D%26rls%3DGGLG,GGLG:2006-14,GGLG:fr%26sa%3DN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fr/imgres?imgurl=http://www.generationmp3.com/bigfiles/DclsBOSS/Photos_test_Support%2520Plus%2520Q-be/apericubes.JPG&amp;imgrefurl=http://www.generationmp3.com/forum/Support_Plus_Q_be-t29859.html&amp;h=143&amp;w=130&amp;sz=6&amp;hl=fr&amp;sig2=OoiuczKkXT6HuZ-Si5sZ1w&amp;start=12&amp;tbnid=PlNcdB5TJ1lYLM:&amp;tbnh=94&amp;tbnw=85&amp;ei=1DmRRc6cML_YSYauzZQP&amp;prev=/images%3Fq%3Dapericubes%26svnum%3D10%26hl%3Dfr%26lr%3D%26rls%3DGGLG,GGLG:2006-14,GGLG:fr" TargetMode="External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morocco.superbrandsmena.com/images/la-Vache-Qui-Rit_logo.jpg&amp;imgrefurl=http://www.morocco.superbrandsmena.com/Brand%2520Studies.html&amp;h=191&amp;w=283&amp;sz=10&amp;hl=fr&amp;sig2=zS03x_d3s1AlfljrokfNZw&amp;start=2&amp;tbnid=_02trkmoZV59FM:&amp;tbnh=77&amp;tbnw=114&amp;ei=BzqRRaO7JISgSbvv-PUO&amp;prev=/images%3Fq%3Dvache%2Bqui%2Brit%26svnum%3D10%26hl%3Dfr%26lr%3D%26rls%3DGGLG,GGLG:2006-14,GGLG:fr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nikonpassion.com/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richardparent.net/fs0003/hello/85/1900/400/Second%2520Life.jpg&amp;imgrefurl=http://www.jeteye.com/jetpak/e20875d0-3b33-1029-86c1-00304880af2f&amp;h=244&amp;w=400&amp;sz=19&amp;hl=fr&amp;sig2=7LnZHX3QNtDjfuWEO7uCmQ&amp;start=17&amp;tbnid=A-PgJC3PJpTrnM:&amp;tbnh=76&amp;tbnw=124&amp;ei=ozSSRdunObTAwgG40vCIDQ&amp;prev=/images%3Fq%3Dsecond%2Blife%26svnum%3D10%26hl%3Dfr%26lr%3D%26rls%3DGGLG,GGLG:2006-14,GGLG:fr%26sa%3DN" TargetMode="External"/><Relationship Id="rId3" Type="http://schemas.openxmlformats.org/officeDocument/2006/relationships/image" Target="../media/image36.png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" Target="slide35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dt.thereinperson.com/gallery/albums/Cotton_Candys-Second-Life/Alyssum_s_Second_Life.highlight.jpg&amp;imgrefurl=http://dt.thereinperson.com/gallery/albums.php/&amp;h=200&amp;w=200&amp;sz=6&amp;hl=fr&amp;sig2=c6noPWgVWzF94PwnLJ-fTg&amp;start=24&amp;tbnid=ssIhJrjHXZp1uM:&amp;tbnh=104&amp;tbnw=104&amp;ei=0DSSRfPnAb3-wAGHmuSzDA&amp;prev=/images%3Fq%3Dsecond%2Blife%26start%3D20%26ndsp%3D20%26svnum%3D10%26hl%3Dfr%26lr%3D%26rls%3DGGLG,GGLG:2006-14,GGLG:fr%26sa%3DN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images.google.fr/imgres?imgurl=http://www.viamagazine.com/images/articles/gourmet03.jpg&amp;imgrefurl=http://www.viamagazine.com/weekenders/gourmet03.asp&amp;h=263&amp;w=406&amp;sz=19&amp;hl=fr&amp;sig2=4ZlCHk0CkmAOkL7t1jFkVA&amp;start=1&amp;tbnid=tu8mjRsmorgq_M:&amp;tbnh=80&amp;tbnw=124&amp;ei=SzqSRbORBc7IwQGDy6HGDA&amp;prev=/images%3Fq%3Dghetto%2Bgourmet%26svnum%3D10%26hl%3Dfr%26lr%3D%26rls%3DGGLG,GGLG:2006-14,GGLG:fr%26sa%3DN" TargetMode="External"/><Relationship Id="rId5" Type="http://schemas.openxmlformats.org/officeDocument/2006/relationships/image" Target="../media/image42.jpeg"/><Relationship Id="rId6" Type="http://schemas.openxmlformats.org/officeDocument/2006/relationships/slide" Target="slide36.xm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diamant-gems.com/french/images/ft23.gif&amp;imgrefurl=http://www.diamant-gems.com/french/achat-vente/bagues.htm&amp;h=222&amp;w=174&amp;sz=12&amp;hl=fr&amp;sig2=uQwu2yC_4jh44W17iUVfxw&amp;start=7&amp;tbnid=W4so7MzC6NNUdM:&amp;tbnh=107&amp;tbnw=84&amp;ei=rT2SRd_9MrvIwQHh8a3EDA&amp;prev=/images%3Fq%3Dbijoux%26svnum%3D10%26hl%3Dfr%26lr%3D%26rls%3DGGLG,GGLG:2006-14,GGLG:fr" TargetMode="External"/><Relationship Id="rId3" Type="http://schemas.openxmlformats.org/officeDocument/2006/relationships/image" Target="../media/image43.jpeg"/><Relationship Id="rId4" Type="http://schemas.openxmlformats.org/officeDocument/2006/relationships/slide" Target="slide36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foodrestaurantfranchises.com/wwwgraphics/profile_pics/hhowie/pizzas.jpg&amp;imgrefurl=http://www.foodrestaurantfranchises.com/directory/hhowies.html&amp;h=194&amp;w=190&amp;sz=12&amp;hl=fr&amp;sig2=F9aa8Z9yCC8enz_Ds7jqqQ&amp;start=5&amp;tbnid=1MfgYcaZfh2PIM:&amp;tbnh=103&amp;tbnw=101&amp;ei=zT2SRfvdOa68wgHT6cX-DA&amp;prev=/images%3Fq%3Dpizzas%26svnum%3D10%26hl%3Dfr%26lr%3D%26rls%3DGGLG,GGLG:2006-14,GGLG:fr" TargetMode="External"/><Relationship Id="rId3" Type="http://schemas.openxmlformats.org/officeDocument/2006/relationships/image" Target="../media/image44.jpeg"/><Relationship Id="rId4" Type="http://schemas.openxmlformats.org/officeDocument/2006/relationships/hyperlink" Target="http://images.google.fr/imgres?imgurl=http://www.groupe-castel.com/images/verre_biere.gif&amp;imgrefurl=http://www.groupe-castel.com/fr/metiers/metier_biere01.shtml&amp;h=248&amp;w=148&amp;sz=7&amp;hl=fr&amp;sig2=28w2t9O1X_rfoxAHU_bc-Q&amp;start=3&amp;tbnid=hckxx6f8_EHssM:&amp;tbnh=111&amp;tbnw=66&amp;ei=_j2SRZXgJcH6wQHpjIDyDA&amp;prev=/images%3Fq%3Dbiere%252Bverre%26svnum%3D10%26hl%3Dfr%26lr%3D%26rls%3DGGLG,GGLG:2006-14,GGLG:fr" TargetMode="External"/><Relationship Id="rId5" Type="http://schemas.openxmlformats.org/officeDocument/2006/relationships/image" Target="../media/image45.jpeg"/><Relationship Id="rId6" Type="http://schemas.openxmlformats.org/officeDocument/2006/relationships/hyperlink" Target="http://shop.borsheims.com/Borsheims/BorsheimsU.aspx" TargetMode="External"/><Relationship Id="rId7" Type="http://schemas.openxmlformats.org/officeDocument/2006/relationships/image" Target="../media/image46.jpeg"/><Relationship Id="rId8" Type="http://schemas.openxmlformats.org/officeDocument/2006/relationships/hyperlink" Target="http://images.google.fr/imgres?imgurl=http://www.portugalvirtual.pt/_tourism/costadelisboa/estoril/casino.jpg&amp;imgrefurl=http://www.portugalvirtual.pt/_tourism/costadelisboa/estoril/index.html&amp;h=240&amp;w=250&amp;sz=17&amp;hl=fr&amp;sig2=7TcNFh8SvWrwMyZiw52M1g&amp;start=18&amp;tbnid=P9SDy1Xy-sEQLM:&amp;tbnh=107&amp;tbnw=111&amp;ei=w0CSRbegEbzKwQGRwOHIDA&amp;prev=/images%3Fq%3Dcasino%26svnum%3D10%26hl%3Dfr%26lr%3D%26rls%3DGGLG,GGLG:2006-14,GGLG:fr%26sa%3DN" TargetMode="External"/><Relationship Id="rId9" Type="http://schemas.openxmlformats.org/officeDocument/2006/relationships/image" Target="../media/image47.png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courses.psu.edu/nuc_e/nuc_e405_g9c/berlin/bauten/lafayettegalerie2k.jpg&amp;imgrefurl=http://www.courses.psu.edu/nuc_e/nuc_e405_g9c/berlin/bauten/lafay.html&amp;h=500&amp;w=803&amp;sz=463&amp;hl=fr&amp;sig2=AUlGY6OBKcy3SjAZnyCyzw&amp;start=1&amp;tbnid=tjmz57f7D8a-4M:&amp;tbnh=89&amp;tbnw=143&amp;ei=u0OSRY3pHae-wgHRgvyBDQ&amp;prev=/images%3Fq%3Dlafayette%252Bgalerie%26svnum%3D10%26hl%3Dfr%26lr%3D%26rls%3DGGLG,GGLG:2006-14,GGLG:fr" TargetMode="External"/><Relationship Id="rId3" Type="http://schemas.openxmlformats.org/officeDocument/2006/relationships/image" Target="../media/image48.jpeg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colederire.com/images/RIR04plagemedit5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i48.photobucket.com/albums/f227/martalala/cotelette.jpg&amp;imgrefurl=http://profile.myspace.com/index.cfm%3Ffuseaction%3Duser.viewprofile%26friendid%3D41111095&amp;h=297&amp;w=210&amp;sz=33&amp;hl=fr&amp;sig2=thfj3Fmpp-ZFxp5FiKLDJw&amp;start=6&amp;tbnid=-9z28T9ZZQpUfM:&amp;tbnh=116&amp;tbnw=82&amp;ei=1USSRYKvMbLSwgGf2uSPDQ&amp;prev=/images%3Fq%3Dcotelette%26svnum%3D10%26hl%3Dfr%26lr%3D%26rls%3DGGLG,GGLG:2006-14,GGLG:fr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images.google.fr/imgres?imgurl=http://www.thedogmuseum.com/images/Smacho.jpg&amp;imgrefurl=http://www.thedogmuseum.com/portraits.html&amp;h=178&amp;w=151&amp;sz=13&amp;hl=fr&amp;sig2=y8Orwh5GqnV-M0WtGObDeA&amp;start=69&amp;tbnid=CbzNXZixTx4QTM:&amp;tbnh=101&amp;tbnw=86&amp;ei=JUWSRbGzLrm2wgGtn5z5DA&amp;prev=/images%3Fq%3Dchiens%26start%3D60%26ndsp%3D20%26svnum%3D10%26hl%3Dfr%26lr%3D%26rls%3DGGLG,GGLG:2006-14,GGLG:fr%26sa%3DN" TargetMode="External"/><Relationship Id="rId5" Type="http://schemas.openxmlformats.org/officeDocument/2006/relationships/image" Target="../media/image50.jpeg"/><Relationship Id="rId6" Type="http://schemas.openxmlformats.org/officeDocument/2006/relationships/hyperlink" Target="http://images.google.fr/imgres?imgurl=http://www.marimayans.com/graphics/sial.gif&amp;imgrefurl=http://www.marimayans.com/prizes_absinthe_i.htm&amp;h=169&amp;w=140&amp;sz=10&amp;hl=fr&amp;sig2=uL0RrOP75w8ooLTAcZJjxA&amp;start=23&amp;tbnid=SKttjmuzYtwvSM:&amp;tbnh=99&amp;tbnw=82&amp;ei=OkuSRcOxG6rWwgHd3N2aDQ&amp;prev=/images%3Fq%3Dsial%26start%3D20%26ndsp%3D20%26svnum%3D10%26hl%3Dfr%26lr%3D%26rls%3DGGLG,GGLG:2006-14,GGLG:fr%26sa%3DN" TargetMode="External"/><Relationship Id="rId7" Type="http://schemas.openxmlformats.org/officeDocument/2006/relationships/image" Target="../media/image51.jpeg"/><Relationship Id="rId8" Type="http://schemas.openxmlformats.org/officeDocument/2006/relationships/slide" Target="slide36.xml"/><Relationship Id="rId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www.jonas-wittwer.de/pix/ref/23.png&amp;imgrefurl=http://www.jonas-wittwer.de/referenzen.html&amp;h=144&amp;w=198&amp;sz=15&amp;hl=fr&amp;sig2=z7-ubCBeSCJC3Wf_G4Wn0w&amp;start=37&amp;tbnid=CIhiZs-INdSTsM:&amp;tbnh=76&amp;tbnw=104&amp;ei=OkuSRcOxG6rWwgHd3N2aDQ&amp;prev=/images%3Fq%3Dsial%26start%3D20%26ndsp%3D20%26svnum%3D10%26hl%3Dfr%26lr%3D%26rls%3DGGLG,GGLG:2006-14,GGLG:fr%26sa%3DN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www.uquebec.caedusantesocialeimp_sentiment/" TargetMode="External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hetto-gourmet.com/" TargetMode="External"/><Relationship Id="rId3" Type="http://schemas.openxmlformats.org/officeDocument/2006/relationships/hyperlink" Target="http://www.ghetto-gourmet.com/" TargetMode="External"/><Relationship Id="rId4" Type="http://schemas.openxmlformats.org/officeDocument/2006/relationships/hyperlink" Target="http://www.ghetto-gourmet.com/" TargetMode="External"/><Relationship Id="rId5" Type="http://schemas.openxmlformats.org/officeDocument/2006/relationships/hyperlink" Target="http://www.ghetto-gourmet.com/" TargetMode="External"/><Relationship Id="rId6" Type="http://schemas.openxmlformats.org/officeDocument/2006/relationships/hyperlink" Target="http://www.ghetto-gourmet.com/" TargetMode="External"/><Relationship Id="rId7" Type="http://schemas.openxmlformats.org/officeDocument/2006/relationships/hyperlink" Target="http://www.ghetto-gourmet.com/" TargetMode="External"/><Relationship Id="rId8" Type="http://schemas.openxmlformats.org/officeDocument/2006/relationships/hyperlink" Target="http://www.ghetto-gourmet.com/" TargetMode="External"/><Relationship Id="rId9" Type="http://schemas.openxmlformats.org/officeDocument/2006/relationships/hyperlink" Target="http://www.ghetto-gourmet.com/" TargetMode="External"/><Relationship Id="rId10" Type="http://schemas.openxmlformats.org/officeDocument/2006/relationships/hyperlink" Target="http://www.desobry.be/" TargetMode="External"/><Relationship Id="rId11" Type="http://schemas.openxmlformats.org/officeDocument/2006/relationships/hyperlink" Target="http://www.desobry.be/" TargetMode="External"/><Relationship Id="rId12" Type="http://schemas.openxmlformats.org/officeDocument/2006/relationships/hyperlink" Target="http://www.desobry.be/" TargetMode="External"/><Relationship Id="rId13" Type="http://schemas.openxmlformats.org/officeDocument/2006/relationships/hyperlink" Target="http://www.desobry.be/" TargetMode="External"/><Relationship Id="rId14" Type="http://schemas.openxmlformats.org/officeDocument/2006/relationships/hyperlink" Target="http://www.desobry.be/" TargetMode="External"/><Relationship Id="rId15" Type="http://schemas.openxmlformats.org/officeDocument/2006/relationships/hyperlink" Target="http://www.csc-scc.gc.ca/" TargetMode="External"/><Relationship Id="rId16" Type="http://schemas.openxmlformats.org/officeDocument/2006/relationships/hyperlink" Target="http://www.csc-scc.gc.ca/" TargetMode="External"/><Relationship Id="rId17" Type="http://schemas.openxmlformats.org/officeDocument/2006/relationships/hyperlink" Target="http://www.csc-scc.gc.ca/" TargetMode="External"/><Relationship Id="rId18" Type="http://schemas.openxmlformats.org/officeDocument/2006/relationships/hyperlink" Target="http://www.csc-scc.gc.ca/" TargetMode="External"/><Relationship Id="rId19" Type="http://schemas.openxmlformats.org/officeDocument/2006/relationships/hyperlink" Target="http://www.nikonpassion.com/" TargetMode="External"/><Relationship Id="rId20" Type="http://schemas.openxmlformats.org/officeDocument/2006/relationships/hyperlink" Target="http://www.nikonpassion.com/" TargetMode="External"/><Relationship Id="rId21" Type="http://schemas.openxmlformats.org/officeDocument/2006/relationships/hyperlink" Target="http://www.nikonpassion.com/" TargetMode="External"/><Relationship Id="rId22" Type="http://schemas.openxmlformats.org/officeDocument/2006/relationships/hyperlink" Target="http://www.nikonpassion.com/" TargetMode="External"/><Relationship Id="rId23" Type="http://schemas.openxmlformats.org/officeDocument/2006/relationships/slide" Target="slide4.xml"/><Relationship Id="rId24" Type="http://schemas.openxmlformats.org/officeDocument/2006/relationships/slide" Target="slide4.xml"/><Relationship Id="rId25" Type="http://schemas.openxmlformats.org/officeDocument/2006/relationships/slide" Target="slide4.xml"/><Relationship Id="rId26" Type="http://schemas.openxmlformats.org/officeDocument/2006/relationships/slide" Target="slide4.xml"/><Relationship Id="rId27" Type="http://schemas.openxmlformats.org/officeDocument/2006/relationships/hyperlink" Target="http://www.escp.eap.net/" TargetMode="External"/><Relationship Id="rId28" Type="http://schemas.openxmlformats.org/officeDocument/2006/relationships/hyperlink" Target="http://www.escp.eap.net/" TargetMode="External"/><Relationship Id="rId29" Type="http://schemas.openxmlformats.org/officeDocument/2006/relationships/hyperlink" Target="http://www.escp.eap.net/" TargetMode="External"/><Relationship Id="rId30" Type="http://schemas.openxmlformats.org/officeDocument/2006/relationships/hyperlink" Target="http://www.escp.eap.net/" TargetMode="External"/><Relationship Id="rId31" Type="http://schemas.openxmlformats.org/officeDocument/2006/relationships/hyperlink" Target="http://www.agendiaal.blogspirit.com/" TargetMode="External"/><Relationship Id="rId32" Type="http://schemas.openxmlformats.org/officeDocument/2006/relationships/hyperlink" Target="http://www.retailwire.com/" TargetMode="External"/><Relationship Id="rId33" Type="http://schemas.openxmlformats.org/officeDocument/2006/relationships/hyperlink" Target="http://www.retailwire.com/" TargetMode="External"/><Relationship Id="rId34" Type="http://schemas.openxmlformats.org/officeDocument/2006/relationships/hyperlink" Target="http://www.retailwire.com/" TargetMode="External"/><Relationship Id="rId35" Type="http://schemas.openxmlformats.org/officeDocument/2006/relationships/hyperlink" Target="http://www.retailwire.com/" TargetMode="External"/><Relationship Id="rId36" Type="http://schemas.openxmlformats.org/officeDocument/2006/relationships/hyperlink" Target="http://www.retailwire.com/" TargetMode="External"/><Relationship Id="rId37" Type="http://schemas.openxmlformats.org/officeDocument/2006/relationships/hyperlink" Target="http://www.retailwire.com/" TargetMode="External"/><Relationship Id="rId38" Type="http://schemas.openxmlformats.org/officeDocument/2006/relationships/slide" Target="slide5.xml"/><Relationship Id="rId39" Type="http://schemas.openxmlformats.org/officeDocument/2006/relationships/slide" Target="slide8.xml"/><Relationship Id="rId40" Type="http://schemas.openxmlformats.org/officeDocument/2006/relationships/slide" Target="slide13.xml"/><Relationship Id="rId41" Type="http://schemas.openxmlformats.org/officeDocument/2006/relationships/slide" Target="slide13.xml"/><Relationship Id="rId42" Type="http://schemas.openxmlformats.org/officeDocument/2006/relationships/slide" Target="slide23.xml"/><Relationship Id="rId43" Type="http://schemas.openxmlformats.org/officeDocument/2006/relationships/slide" Target="slide22.xml"/><Relationship Id="rId44" Type="http://schemas.openxmlformats.org/officeDocument/2006/relationships/slide" Target="slide17.xml"/><Relationship Id="rId45" Type="http://schemas.openxmlformats.org/officeDocument/2006/relationships/slide" Target="slide25.xml"/><Relationship Id="rId46" Type="http://schemas.openxmlformats.org/officeDocument/2006/relationships/slide" Target="slide24.xml"/><Relationship Id="rId47" Type="http://schemas.openxmlformats.org/officeDocument/2006/relationships/slide" Target="slide27.xml"/><Relationship Id="rId48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bk.secodip.com/" TargetMode="External"/><Relationship Id="rId3" Type="http://schemas.openxmlformats.org/officeDocument/2006/relationships/hyperlink" Target="http://www.mbk.secodip.com/" TargetMode="External"/><Relationship Id="rId4" Type="http://schemas.openxmlformats.org/officeDocument/2006/relationships/hyperlink" Target="http://www.sial.fr/" TargetMode="External"/><Relationship Id="rId5" Type="http://schemas.openxmlformats.org/officeDocument/2006/relationships/hyperlink" Target="http://www.sial.fr/" TargetMode="External"/><Relationship Id="rId6" Type="http://schemas.openxmlformats.org/officeDocument/2006/relationships/hyperlink" Target="http://www.sial.fr/" TargetMode="External"/><Relationship Id="rId7" Type="http://schemas.openxmlformats.org/officeDocument/2006/relationships/hyperlink" Target="http://www.sial.fr/" TargetMode="External"/><Relationship Id="rId8" Type="http://schemas.openxmlformats.org/officeDocument/2006/relationships/hyperlink" Target="http://www.sial.fr/" TargetMode="External"/><Relationship Id="rId9" Type="http://schemas.openxmlformats.org/officeDocument/2006/relationships/hyperlink" Target="http://www.sial.fr/" TargetMode="Externa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28.xml"/><Relationship Id="rId13" Type="http://schemas.openxmlformats.org/officeDocument/2006/relationships/slide" Target="slide34.xml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departmentstoreparis.printemps.com/img_upload/pinter/home/affiche_home.jpg&amp;imgrefurl=http://departmentstoreparis.printemps.com/&amp;h=424&amp;w=285&amp;sz=29&amp;hl=fr&amp;sig2=5OUPSWcheW_t_QJF928Xbw&amp;start=8&amp;tbnid=FGnHceMoYxhQKM:&amp;tbnh=126&amp;tbnw=85&amp;ei=nyWRRbCyDMrQScr25JEP&amp;prev=/images%3Fq%3Dprintemps%26svnum%3D10%26hl%3Dfr%26lr%3D%26rls%3DGGLG,GGLG:2006-14,GGLG:fr%26sa%3DN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fr/imgres?imgurl=http://www.teteamodeler.com/boiteaoutils/image/images12/photophore.gif&amp;imgrefurl=http://www.teteamodeler.com/vip2/nouveaux/creativite4/fiche859.asp&amp;h=275&amp;w=425&amp;sz=38&amp;hl=fr&amp;sig2=tI6Wy1lvsq72FGaQCaaHGg&amp;start=1&amp;tbnid=7jiwYr7jq8FIeM:&amp;tbnh=82&amp;tbnw=126&amp;ei=vCWRRbvvL4q8SNu-mZYP&amp;prev=/images%3Fq%3Dphotophore%26svnum%3D10%26hl%3Dfr%26lr%3D%26rls%3DGGLG,GGLG:2006-14,GGLG:fr" TargetMode="External"/><Relationship Id="rId5" Type="http://schemas.openxmlformats.org/officeDocument/2006/relationships/image" Target="../media/image11.jpeg"/><Relationship Id="rId6" Type="http://schemas.openxmlformats.org/officeDocument/2006/relationships/slide" Target="slide35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fr/imgres?imgurl=http://que-ma-joie-demeure.noosblog.fr/que_ma_joie_demeure/images/dsc06690.jpg&amp;imgrefurl=http://que-ma-joie-demeure.noosblog.fr/que_ma_joie_demeure/motions/index.html&amp;h=337&amp;w=450&amp;sz=53&amp;hl=fr&amp;sig2=gPje5fqca3W0sfLpxn1qug&amp;start=21&amp;tbnid=hHxjnAB87y8LsM:&amp;tbnh=95&amp;tbnw=127&amp;ei=gSeRRZ78AbywSemAtf4O&amp;prev=/images%3Fq%3Dmille%2Bet%2Bun%2Bnuits%26start%3D20%26ndsp%3D20%26svnum%3D10%26hl%3Dfr%26lr%3D%26rls%3DGGLG,GGLG:2006-14,GGLG:fr%26sa%3DN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fr/imgres?imgurl=http://www.97320.com/photo/imagette-gal-90442.jpg&amp;imgrefurl=http://www.97320.com/index.php%3Faction%3Dgalerie%26page%3D3%26start%3D24&amp;h=120&amp;w=180&amp;sz=9&amp;hl=fr&amp;sig2=HPERduV8T1UuFfQYBN-idg&amp;start=19&amp;tbnid=D2gs3zRmFQ0B_M:&amp;tbnh=67&amp;tbnw=101&amp;ei=sSeRRYKhM426SKCvuZIP&amp;prev=/images%3Fq%3Dmille%2Bet%2Bun%2Bnuits%252Bprintemps%26svnum%3D10%26hl%3Dfr%26lr%3D%26rls%3DGGLG,GGLG:2006-14,GGLG:fr" TargetMode="External"/><Relationship Id="rId5" Type="http://schemas.openxmlformats.org/officeDocument/2006/relationships/image" Target="../media/image13.jpeg"/><Relationship Id="rId6" Type="http://schemas.openxmlformats.org/officeDocument/2006/relationships/slide" Target="slide35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996633"/>
                </a:solidFill>
                <a:latin typeface="Times New Roman"/>
              </a:rPr>
              <a:t>TENDANCE APPARTENANCE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ONVIVIALITE,TRIBU ET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OMMUNA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213372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upermarchés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groalimentair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’hésitent pas à sui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tte démarche en décorant leurs rayons. On se trouve dans une ambiance fes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3124440" cy="234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862520"/>
            <a:ext cx="1981440" cy="138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78840" y="6400800"/>
            <a:ext cx="79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ctivité des courses se transforme en moment de convivi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 la distrib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hoppen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la clientèle féminine, les magasin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éli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nt développé le concept de « mannequins vivants ». Plus besoin de venir accompagnée de son conjoint. Moment de partage, de convivialité et de plaisi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4648320"/>
            <a:ext cx="2209680" cy="1699920"/>
          </a:xfrm>
          <a:prstGeom prst="rect">
            <a:avLst/>
          </a:prstGeom>
          <a:ln w="0">
            <a:noFill/>
          </a:ln>
        </p:spPr>
      </p:pic>
      <p:pic>
        <p:nvPicPr>
          <p:cNvPr id="157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443556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05520" y="1981080"/>
            <a:ext cx="1143000" cy="4111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7315200" y="1905120"/>
            <a:ext cx="838080" cy="5331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 la distrib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ervices associés au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4040" y="2556000"/>
            <a:ext cx="726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er 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éveloppe la possibilité de commander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nus traiteurs. Il propose également des location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ises et de tables. Il participe à la préparation des fê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crée un lien avec la fam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4648320"/>
            <a:ext cx="1086120" cy="134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4724280"/>
            <a:ext cx="1295280" cy="1282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4191120"/>
            <a:ext cx="772920" cy="1257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81680" y="4343400"/>
            <a:ext cx="1714680" cy="108576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10" action="ppaction://hlinksldjump"/>
          </p:cNvPr>
          <p:cNvSpPr/>
          <p:nvPr/>
        </p:nvSpPr>
        <p:spPr>
          <a:xfrm>
            <a:off x="7391520" y="1905120"/>
            <a:ext cx="609480" cy="3808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3040" y="1828800"/>
            <a:ext cx="796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 exemple avec le group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cter et Gam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Il a ouv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cemment une station de lavage de voitures. Les clients ont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attendre en regardant la télévision et les enf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vent s’amuser à laver les voitures à l’aide de petits pisto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ez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cwi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es enfants peuvent essayer les playmobiles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coté mise à disposition de fauteuils pour les parents. Ai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s peuvent discuter ensemble (communauté des par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fatigue d’attendre est désormais absente et un client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hètera plus facilem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14400" y="3060720"/>
            <a:ext cx="8686800" cy="360"/>
          </a:xfrm>
          <a:prstGeom prst="rect">
            <a:avLst/>
          </a:prstGeom>
          <a:solidFill>
            <a:srgbClr val="d0c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304920"/>
            <a:ext cx="17528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80880"/>
            <a:ext cx="2438280" cy="102888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7543800" y="1295280"/>
            <a:ext cx="762120" cy="533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2895480" y="3581280"/>
            <a:ext cx="609840" cy="533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 la distrib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n expérienc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 la distrib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s actions la veille de Noë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52280" y="2936880"/>
            <a:ext cx="713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chan le 23.12.06 de 19h à 23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ropose des affai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promotions. Je l’ai vécu et j’ai décidé de mettre c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ecdote dans les moments de convivia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ne voit plus cela comme des courses mais co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jeu de faire les meilleurs affaires pos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un même but et on rencontre des personnes,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’amuse. On a une bonne ambiance même lorsqu’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lot de personnes se jette sur les produi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Le produi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Le produi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on embal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49880" y="2479680"/>
            <a:ext cx="7230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 couleur, sa forme, sa dimension sont des critè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ants si l’on veut lui donner son caractère conviv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50960" y="3699000"/>
            <a:ext cx="760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a biscuiteri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obr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ur les boites on a la re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une famille attablée, signe de convivia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2361960" cy="1298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095880" y="4952880"/>
            <a:ext cx="1676520" cy="1317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2057400"/>
            <a:ext cx="892080" cy="388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7960" y="628956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sortiments de biscuits, choix pour toute la famil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7" action="ppaction://hlinksldjump"/>
          </p:cNvPr>
          <p:cNvSpPr/>
          <p:nvPr/>
        </p:nvSpPr>
        <p:spPr>
          <a:xfrm>
            <a:off x="6553080" y="1752480"/>
            <a:ext cx="609840" cy="457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38560" y="1905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i ne connaît pas ces merveilleux chocolats Ferrero Roc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61880" y="2286000"/>
            <a:ext cx="800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ur emballage couleur dorée est le symbole de la fête et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ichesse. Dans la publicité ce chocolat se déguste dans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ceptions. On peut le trouver dans différentes formes de bo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Q: Tous ces exemples montrent que l’appartenance est si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en sûr de convivialité mais elle se retrouve principalement 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ment des fêtes.Voilà pourquoi il est intéressant de s’ax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r Noë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365760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3581280"/>
            <a:ext cx="1292400" cy="1292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38680" y="3886200"/>
            <a:ext cx="1268640" cy="949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91520" y="3505320"/>
            <a:ext cx="971280" cy="134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Le produi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e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76800" y="2479680"/>
            <a:ext cx="76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coté  d’un produit et de son packaging il faut pou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peller le consommateur et travailler sur le ludisme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gager une ambiance de fête et de partage. Le plus 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se retrouve au niveau 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éricub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Ceux-ci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compagnés de petites questions. Par petits groupes, on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ée des défis. On élabore un jeu de société sy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moment de l’apériti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5181480"/>
            <a:ext cx="1384200" cy="1532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5373720"/>
            <a:ext cx="1303200" cy="87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828800"/>
            <a:ext cx="161226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omportements des consommateurs changent, évolu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ux-ci sont façonnés par l’existence d’un rapport so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un de ces comportements concerne « le citoyen du monde 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développe des valeurs citoyen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valeurs concernent la famille, l’équilibre entre la v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sonnelle et professionnelle. Elles vont générer des condu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nnues dans l’idéal et estimables par un  groupe.On 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ntiment rassurant de Partager un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mmunau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’émo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sa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rib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03240" y="2098800"/>
            <a:ext cx="743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réer une ambiance chaleureuse à l’époque de Noë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se retrouver en famille, on a aussi un moteur importa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lui du sensoriel (il évoque le souvenir). Exemple ici  s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on avec les petites boites à musique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mbertz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découvrir différentes chansons de Noël, douces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oreille. Ce service est original, la personne pourra g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boite et l’utiliser pour y mettre ses petits secret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secrets ne sont-ils pas aussi symbole d’appartena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boîtes sont tout particulièrement destinées aux Grand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ères. On crée un lien avec les petits enf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mages" descr=""/>
          <p:cNvPicPr/>
          <p:nvPr/>
        </p:nvPicPr>
        <p:blipFill>
          <a:blip r:embed="rId2"/>
          <a:stretch/>
        </p:blipFill>
        <p:spPr>
          <a:xfrm>
            <a:off x="3886200" y="15228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202" name="home_3" descr=""/>
          <p:cNvPicPr/>
          <p:nvPr/>
        </p:nvPicPr>
        <p:blipFill>
          <a:blip r:embed="rId3"/>
          <a:stretch/>
        </p:blipFill>
        <p:spPr>
          <a:xfrm>
            <a:off x="5638680" y="6172200"/>
            <a:ext cx="3505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Les réseaux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mbole de la communaut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Les réseaux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s communautés de mar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7960" y="2514600"/>
            <a:ext cx="7749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Marketers, pour trouver les nouveaux comport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onsommateurs vont s’intéresser à un groupe. Celui-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composé de personnes ayant les mêmes valeurs, 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êmes normes et même représentation pour une Mar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personnes ont un attachement commun à cette Marq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s ont un lien d’appartenance entre e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communautés de marque se retrouvent sur des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net. Le groupe discute et échange des inform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donc une communication interpersonnelle qui va c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rner les expériences de chacun avec un produit. On par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« bouche à oreille » (très intéressant pour faire de la vei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7238880" y="1676520"/>
            <a:ext cx="762120" cy="5331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74360" y="99072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nikonpassion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forum galerie infos nikon et nikonist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304920"/>
            <a:ext cx="534996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486080" y="1981080"/>
            <a:ext cx="7657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ici de site propos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un site Internet (décrire la Mar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des forums de discussions (pour échanger ses impression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des galeries de photos (pour montrer son produ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des Blogs (pour se faire connaître et entrer dans le grou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es ces formes démontrent bien une appartenance à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rque.On voit donc le rôle important de la Marque auprè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u consommateur.Une Marque sera l’identité même 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duit.Ces réseaux aideront à déterminer les préférences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ate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30800" y="1916280"/>
            <a:ext cx="30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 non agroalimentai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arque d’un appareil 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4" action="ppaction://hlinksldjump"/>
          </p:cNvPr>
          <p:cNvSpPr/>
          <p:nvPr/>
        </p:nvSpPr>
        <p:spPr>
          <a:xfrm>
            <a:off x="5638680" y="762120"/>
            <a:ext cx="762120" cy="457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905120" y="228600"/>
            <a:ext cx="5153040" cy="1352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892120" y="190188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 agroalimen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523880" y="2895480"/>
            <a:ext cx="6915240" cy="2124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2280" y="236232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www.escp-eap.net/conferences/marketing/2005_cp/Materiali/Paper/Fr/Cova_Pace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1120" y="5305320"/>
            <a:ext cx="68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lien vous fait accéder sur un document expliq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démarche de « tribal branding » avec l’étude de 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nutella the communit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». On retrouvera les mo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valeurs, tribu, fidélisation….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523880" y="4876920"/>
            <a:ext cx="6934320" cy="390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1600200" cy="103032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6553080" y="228600"/>
            <a:ext cx="685800" cy="533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Les réseaux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Jeu Virtu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63680" y="2438280"/>
            <a:ext cx="751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25.12.06 aux informations de France2 découverte du j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ond Lif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» pour les 15-35ans. (principe des « sims 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’est un jeu qui amène l’utilisateur dans un monde virtu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des services payants. Il va entretenir des liens av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autres personnes. Il trouve une socialis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va pouvoir créer son avatar, payer sa maison, trouver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mme.Il se crée une vie idéale et appartient au monde 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culte de la réussite 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y retrouve des 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faire de la publicit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ource œil Laser n°1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5411880"/>
            <a:ext cx="2362320" cy="1446120"/>
          </a:xfrm>
          <a:prstGeom prst="rect">
            <a:avLst/>
          </a:prstGeom>
          <a:ln w="0">
            <a:noFill/>
          </a:ln>
        </p:spPr>
      </p:pic>
      <p:pic>
        <p:nvPicPr>
          <p:cNvPr id="229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3049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153280" y="5715000"/>
            <a:ext cx="685800" cy="533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s entrepri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s entrepri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s réu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38920" y="2590920"/>
            <a:ext cx="793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Oakland en Californie, deux frères créent l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ghetto-Gourm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la consiste à réunir un groupe de personnes amateur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uisine autour d’un repas à chaque fois dans des endro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érents ( appartement,parking…). Ces personnes se se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crites par Internet et auront reçu une confirmation par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cun apporte sa bouteille. Cela permet d’échanger 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ressions, ses expériences. On retrouve l’aspect chaleur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convivial autour d’une table.L’avantage ici est de pou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des connaiss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5638680"/>
            <a:ext cx="141768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4572000" y="1905120"/>
            <a:ext cx="838080" cy="5331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96000" y="1752480"/>
            <a:ext cx="7933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 exemple de réunions dans la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jouterie « Borsheim’s 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lle-ci organise peu avant les fêtes de Noël des soir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ervées uniquement aux hommes pour qu’ils puissent chois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bijou pour leur femme. On leur offre Bière et pizza (trib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hommes!). Ces bijoux peuvent faire partie d’une liste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ur femme aurait remplie lors de réunions précédentes p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D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4876920"/>
            <a:ext cx="1260720" cy="1603080"/>
          </a:xfrm>
          <a:prstGeom prst="rect">
            <a:avLst/>
          </a:prstGeom>
          <a:ln w="0">
            <a:noFill/>
          </a:ln>
        </p:spPr>
      </p:pic>
      <p:pic>
        <p:nvPicPr>
          <p:cNvPr id="239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4648320"/>
            <a:ext cx="1154160" cy="1177920"/>
          </a:xfrm>
          <a:prstGeom prst="rect">
            <a:avLst/>
          </a:prstGeom>
          <a:ln w="0">
            <a:noFill/>
          </a:ln>
        </p:spPr>
      </p:pic>
      <p:pic>
        <p:nvPicPr>
          <p:cNvPr id="240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0" y="5029200"/>
            <a:ext cx="754200" cy="1268280"/>
          </a:xfrm>
          <a:prstGeom prst="rect">
            <a:avLst/>
          </a:prstGeom>
          <a:ln w="0">
            <a:noFill/>
          </a:ln>
        </p:spPr>
      </p:pic>
      <p:pic>
        <p:nvPicPr>
          <p:cNvPr id="241" name="nav-borsheimsu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352680" y="152280"/>
            <a:ext cx="1440000" cy="132552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10" action="ppaction://hlinksldjump"/>
          </p:cNvPr>
          <p:cNvSpPr/>
          <p:nvPr/>
        </p:nvSpPr>
        <p:spPr>
          <a:xfrm>
            <a:off x="7543800" y="1295280"/>
            <a:ext cx="838080" cy="685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s entrepri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oirées thém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76800" y="2403360"/>
            <a:ext cx="761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rtaines entreprises ont compris que le management 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sonnel est important. En effet pour qu’une entrepr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 correctement et avance dans ses projets, il 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dynamisme permanent et une bonne ambiance dans 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quipes. Pour développer la convivialité l’entreprise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anonyme) fait appel au Casino d’Ostende qui installe 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eux et donne, au personnel, la possibilité de jouer avec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stèmes de jetons (aucun argent en jeu). Les discussions 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nt pas professionnelles mais permettent de mieux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naître. (c’est ce que nous avons fait au début de l’an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notre Promo à Pizza P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352680"/>
            <a:ext cx="1447920" cy="13953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6095880" y="1523880"/>
            <a:ext cx="6858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24520" y="2127240"/>
            <a:ext cx="754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le monde du marketing, la tendance « Appartenance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importante pour comprendre et attirer le consommate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ppartenance est un moment de partage et de plaisir,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mille ou entre amis et se caractérise par la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nvivia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lle-ci est mise en avant par le produit et par son univer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304920"/>
            <a:ext cx="1622520" cy="1074600"/>
          </a:xfrm>
          <a:prstGeom prst="rect">
            <a:avLst/>
          </a:prstGeom>
          <a:ln w="0">
            <a:noFill/>
          </a:ln>
        </p:spPr>
      </p:pic>
      <p:pic>
        <p:nvPicPr>
          <p:cNvPr id="117" name="images" descr=""/>
          <p:cNvPicPr/>
          <p:nvPr/>
        </p:nvPicPr>
        <p:blipFill>
          <a:blip r:embed="rId4"/>
          <a:stretch/>
        </p:blipFill>
        <p:spPr>
          <a:xfrm>
            <a:off x="3886200" y="518148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118" name="images" descr=""/>
          <p:cNvPicPr/>
          <p:nvPr/>
        </p:nvPicPr>
        <p:blipFill>
          <a:blip r:embed="rId5"/>
          <a:stretch/>
        </p:blipFill>
        <p:spPr>
          <a:xfrm>
            <a:off x="6400800" y="1905120"/>
            <a:ext cx="1279440" cy="834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Cible : les animaux de compagni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ien avec le maît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Les animaux de compagni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72480" y="1946160"/>
            <a:ext cx="760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finir nos recherches sur la tendance apparten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s les exemples précédents concernaient les liens entre 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umains. Mais certains magasins ont trouvé l’astuce p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irer le consommateur en visant son animal de compagn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’est le cas 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galeries Lafayet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qui créent une vitr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hiens. En effet cette vitrine expose des côtelet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ant un ballet, fantasme des Canin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5029200"/>
            <a:ext cx="2133360" cy="1327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648320"/>
            <a:ext cx="936720" cy="13255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3600" y="5334120"/>
            <a:ext cx="1112760" cy="130644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91520" y="4800600"/>
            <a:ext cx="761760" cy="6094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retirer de tous ces exemp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Exploiter la tendance Appartenance c’est 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uer sur la mise en scène du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availler sur le packaging du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poser des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réer des réunions, des soirées de dégustation pour la découverte du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uivre le produit par du 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tribu branding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7920" y="1981080"/>
            <a:ext cx="7845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tendance Appartenance est l’étape ultime pour attir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onsommateur. Au SIAL, nous avons observé tro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ndances de l’innovation : la santé, la praticité et le plais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faut d’abord obtenir une ambiance chaleureuse , un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être pour les explo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va d’abord percevoir la mise en scène des stands : leur couleur, leur disposition. Seulement après on po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’intéresser  au produit. La tendance Appartenance se retrou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chacun des produits puisque le consommateur, on l’a v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l’introduction, doit passer par un besoin d’appartenance pour avoir une stimulation psychologique qui permettra 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ix ou l’acte de d’ac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228600"/>
            <a:ext cx="1063440" cy="128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457200"/>
            <a:ext cx="1189080" cy="868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391520" y="152280"/>
            <a:ext cx="6858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Références bibliographiqu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25960" y="1793880"/>
            <a:ext cx="654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www 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csc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-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scc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gc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0"/>
              </a:rPr>
              <a:t>www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1"/>
              </a:rPr>
              <a:t>uquebec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3"/>
              </a:rPr>
              <a:t>caedusantesocialeimp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4"/>
              </a:rPr>
              <a:t>_sent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animations magasins : les Noëls surprenant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SA 19.10.06 n°19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4) « La minute marketing » du 13.12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5"/>
              </a:rPr>
              <a:t>www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6"/>
              </a:rPr>
              <a:t>retailwire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7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8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5)   Interviews de mon ent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6)  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9"/>
              </a:rPr>
              <a:t>www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0"/>
              </a:rPr>
              <a:t>desobry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2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7)  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3" action="ppaction://hlinksldjump"/>
              </a:rPr>
              <a:t>http://fr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4" action="ppaction://hlinksldjump"/>
              </a:rPr>
              <a:t>wikipedia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5" action="ppaction://hlinksldjump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6" action="ppaction://hlinksldjump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8)  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7"/>
              </a:rPr>
              <a:t>www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8"/>
              </a:rPr>
              <a:t>nikonpassion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9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0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9)  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1"/>
              </a:rPr>
              <a:t>www.escp.ea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2"/>
              </a:rPr>
              <a:t>www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3"/>
              </a:rPr>
              <a:t>agendiaal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4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5"/>
              </a:rPr>
              <a:t>blogspirit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7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finoga-œil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38" action="ppaction://hlinksldjump"/>
          </p:cNvPr>
          <p:cNvSpPr/>
          <p:nvPr/>
        </p:nvSpPr>
        <p:spPr>
          <a:xfrm>
            <a:off x="1219320" y="19051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2720" y="18288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t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39" action="ppaction://hlinksldjump"/>
          </p:cNvPr>
          <p:cNvSpPr/>
          <p:nvPr/>
        </p:nvSpPr>
        <p:spPr>
          <a:xfrm>
            <a:off x="1219320" y="2286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40" action="ppaction://hlinksldjump"/>
          </p:cNvPr>
          <p:cNvSpPr/>
          <p:nvPr/>
        </p:nvSpPr>
        <p:spPr>
          <a:xfrm>
            <a:off x="1219320" y="26668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41" action="ppaction://hlinksldjump"/>
          </p:cNvPr>
          <p:cNvSpPr/>
          <p:nvPr/>
        </p:nvSpPr>
        <p:spPr>
          <a:xfrm>
            <a:off x="1219320" y="3429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42" action="ppaction://hlinksldjump"/>
          </p:cNvPr>
          <p:cNvSpPr/>
          <p:nvPr/>
        </p:nvSpPr>
        <p:spPr>
          <a:xfrm>
            <a:off x="1219320" y="48769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43" action="ppaction://hlinksldjump"/>
          </p:cNvPr>
          <p:cNvSpPr/>
          <p:nvPr/>
        </p:nvSpPr>
        <p:spPr>
          <a:xfrm>
            <a:off x="1219320" y="44956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44" action="ppaction://hlinksldjump"/>
          </p:cNvPr>
          <p:cNvSpPr/>
          <p:nvPr/>
        </p:nvSpPr>
        <p:spPr>
          <a:xfrm>
            <a:off x="1219320" y="41148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45" action="ppaction://hlinksldjump"/>
          </p:cNvPr>
          <p:cNvSpPr/>
          <p:nvPr/>
        </p:nvSpPr>
        <p:spPr>
          <a:xfrm>
            <a:off x="1219320" y="55627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46" action="ppaction://hlinksldjump"/>
          </p:cNvPr>
          <p:cNvSpPr/>
          <p:nvPr/>
        </p:nvSpPr>
        <p:spPr>
          <a:xfrm>
            <a:off x="1219320" y="51814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47" action="ppaction://hlinksldjump"/>
          </p:cNvPr>
          <p:cNvSpPr/>
          <p:nvPr/>
        </p:nvSpPr>
        <p:spPr>
          <a:xfrm>
            <a:off x="1219320" y="59436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uite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06240" y="2022480"/>
            <a:ext cx="398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11)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www.ghetto-gourmet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12)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www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mbk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secodip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13) 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0" action="ppaction://hlinksldjump"/>
              </a:rPr>
              <a:t>www.sial.</a:t>
            </a:r>
            <a:r>
              <a:rPr b="0" lang="fr-FR" sz="2400" spc="-1" strike="noStrike" u="sng">
                <a:solidFill>
                  <a:srgbClr val="cc9900"/>
                </a:solidFill>
                <a:uFillTx/>
                <a:latin typeface="Times New Roman"/>
                <a:hlinkClick r:id="rId11" action="ppaction://hlinksldjump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12" action="ppaction://hlinksldjump"/>
          </p:cNvPr>
          <p:cNvSpPr/>
          <p:nvPr/>
        </p:nvSpPr>
        <p:spPr>
          <a:xfrm>
            <a:off x="1219320" y="21337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13" action="ppaction://hlinksldjump"/>
          </p:cNvPr>
          <p:cNvSpPr/>
          <p:nvPr/>
        </p:nvSpPr>
        <p:spPr>
          <a:xfrm>
            <a:off x="1219320" y="25146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28954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f1_f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5257800" cy="4942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67280" y="3581280"/>
            <a:ext cx="1981440" cy="381240"/>
          </a:xfrm>
          <a:prstGeom prst="leftArrow">
            <a:avLst>
              <a:gd name="adj1" fmla="val 50000"/>
              <a:gd name="adj2" fmla="val 129934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5791320"/>
            <a:ext cx="79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besoin d’appartenance est primordial pour avoir l’es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soi.En marketing il ne faut pas laisser de coté ce beso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543800" y="685800"/>
            <a:ext cx="609480" cy="3808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6200" y="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liquer sur la bulle pour avo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a référence bibliographique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304920"/>
            <a:ext cx="838080" cy="457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chemasentimentsappartenance1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4983120" cy="643716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7315200" y="152280"/>
            <a:ext cx="685800" cy="533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abledressee" descr=""/>
          <p:cNvPicPr/>
          <p:nvPr/>
        </p:nvPicPr>
        <p:blipFill>
          <a:blip r:embed="rId2">
            <a:lum bright="46000"/>
          </a:blip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8120" y="3048120"/>
            <a:ext cx="2819160" cy="13716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vivi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unau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066680"/>
            <a:ext cx="1524240" cy="18288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219320"/>
            <a:ext cx="1600200" cy="18288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nima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pag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962520"/>
            <a:ext cx="1600200" cy="18288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ct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tre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4724280"/>
            <a:ext cx="1600200" cy="18288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3886200"/>
            <a:ext cx="1600200" cy="18288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880" y="54594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998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J’ai principalement axé mes recherches sur l’événement de Noë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apin, cadeaux, des signes certains d’une ambiance familiale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 la distrib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ue sur l’événementiel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 la distrib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teliers créatif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41560" y="247968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tem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possibilité pour le consom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s’arrêter quelques temps pour créer un Phot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ore et discuter avec des professionnels et obten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onse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3962520"/>
            <a:ext cx="182880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4343400"/>
            <a:ext cx="2743200" cy="154620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5181480" y="1752480"/>
            <a:ext cx="609840" cy="457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996633"/>
                </a:solidFill>
                <a:latin typeface="Times New Roman"/>
              </a:rPr>
              <a:t>Secteur de la distrib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s mises en scènes des rayons, des vitr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92920" y="312408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tem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mise en scène des vitrines dans l’univers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s des mille et une nuits pour charmer le consommate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faire rêver et lui donner une ambiance chaleure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419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4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4710240"/>
            <a:ext cx="2209680" cy="146520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6" action="ppaction://hlinksldjump"/>
          </p:cNvPr>
          <p:cNvSpPr/>
          <p:nvPr/>
        </p:nvSpPr>
        <p:spPr>
          <a:xfrm>
            <a:off x="4952880" y="2514600"/>
            <a:ext cx="609840" cy="457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2:38:53Z</dcterms:created>
  <dc:creator>claire</dc:creator>
  <dc:description/>
  <dc:language>en-US</dc:language>
  <cp:lastModifiedBy>Administrateur</cp:lastModifiedBy>
  <dcterms:modified xsi:type="dcterms:W3CDTF">2007-01-02T13:11:02Z</dcterms:modified>
  <cp:revision>37</cp:revision>
  <dc:subject/>
  <dc:title>TENDANCE APPARTENANCE</dc:title>
</cp:coreProperties>
</file>